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620-6A8D-4A85-9929-B06BF31F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B97-90FF-4DB0-9D4E-505BE9C0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E6C-20D8-4F2C-85BA-24032A40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F78-4F17-4502-8F1D-58253E6E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E57-2DDB-47F1-B84E-535F28E1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DE0-CA07-4715-96A4-9E1AE887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024-0857-422C-A13B-F014A8A2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C54-862F-473A-B88E-967A56B7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71F-4CC5-4A14-B29C-6A0606BC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98D-8808-45BB-BD3B-33897F47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012-041B-4F0C-ACFC-27EA4EF2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1C3-20DD-4886-8E5D-3A80090B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843D-5858-45EE-8F8F-212A3EFBE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asslefreeclipart.com/" TargetMode="External"/><Relationship Id="rId2" Type="http://schemas.openxmlformats.org/officeDocument/2006/relationships/hyperlink" Target="http://www.fathersloveletter.com/video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rsbible.inf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mithsroom.com/downloads/resurrection%20eggs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and Dismiss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head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ing- Keyboard Covers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 Reading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lassroom teacher to provide actual test 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 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dventures of Cyber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522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Augu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667240" cy="142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6668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190760" cy="2233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91120" y="4038480"/>
            <a:ext cx="4514760" cy="240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133720" y="1523880"/>
            <a:ext cx="5029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Enjoy your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Summer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3526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971800" y="22860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Octo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5146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1240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53352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Dec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322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3526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. 28- March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Excel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a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Pictograph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Research Project: African Country (con'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yclopedia J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 for K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ather's Love Letter (6 min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ive handout to take ho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rcRect l="0" t="30212" r="0" b="6250"/>
          <a:stretch/>
        </p:blipFill>
        <p:spPr>
          <a:xfrm>
            <a:off x="1523880" y="0"/>
            <a:ext cx="6248520" cy="297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80880" y="45720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ebruary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boarding- Working in Microsoft Word, create columns, and add numbering. Keyboard cover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ng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ooks of the Bib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OLD TESTA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2004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you remember the new keys, x, z and '? Do you remember the new keys, x, z and '? New letters! First a full stop - . - use your right hand ring finger, the same finger as for l. Now for the forward slash - / - use your right little finger - the same finger that you use for ; and 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mithsroom.com/downloads/resurrection%20eggs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your eg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cut and paste the bible verse from the above web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custom 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6672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16:25:48Z</dcterms:created>
  <dc:creator>jose monteiro</dc:creator>
  <dc:description/>
  <dc:language>en-US</dc:language>
  <cp:lastModifiedBy>Dawson</cp:lastModifiedBy>
  <dcterms:modified xsi:type="dcterms:W3CDTF">2011-08-30T03:26:03Z</dcterms:modified>
  <cp:revision>7</cp:revision>
  <dc:subject/>
  <dc:title>August</dc:title>
</cp:coreProperties>
</file>